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078-ECE8-46E6-AAB2-F18B6B53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780-0953-4031-88A8-13D2CBA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63E-F5DB-4D42-833F-367CE3A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E95-6456-45F0-8B56-0BB8AEE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7659-2AF4-4301-B13E-E370DCCC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F533-ED19-4BB8-850E-A013C82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F3AB-2EB0-4CE2-9464-94531D72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6DB-26C5-4FD4-99D5-A591AA69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4E7-C622-4ECF-A0E4-3E62F00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5CEF-76AD-4093-AA52-C29FE867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65DF-0B8C-4F65-9099-70DBF07C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06C-E01F-4215-857F-9D9C3267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39BB-9223-4AC5-BBED-0AE039B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8A7-E31A-4759-9C39-F3A7C2B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D76-3397-4F39-A680-8F62BD9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65C1-78AA-4BD7-83AE-A0EE172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96A-8FC4-4137-B749-560880F7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961-35C6-422E-A570-B1925FE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B40-9BDA-422B-B34E-68DB0BD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DE2-7803-4AE6-8081-2043D38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BD1-A4E2-4690-9313-D191201C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DF1-D738-4B22-B477-D6C86A8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844-1B7D-4FE6-9DAC-7195698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C7A-481D-4CAE-92C4-10573A4E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050A-69C7-410C-92D6-C95B4D4838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DB6-1533-42DA-8CB9-44BE409039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c.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 for Juni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Whit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c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 for Fresh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Shoo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first part of the new int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nch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a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y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9:37Z</dcterms:created>
  <dc:creator>VMS</dc:creator>
  <dc:description/>
  <dc:language>en-US</dc:language>
  <cp:lastModifiedBy>VMS</cp:lastModifiedBy>
  <dcterms:modified xsi:type="dcterms:W3CDTF">2009-11-30T16:22:55Z</dcterms:modified>
  <cp:revision>1</cp:revision>
  <dc:subject/>
  <dc:title>English</dc:title>
</cp:coreProperties>
</file>